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C08-2835-4F07-81D1-B2E2B246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5562-2345-4E33-BDCC-29EC0F07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3CB-7C93-4805-B522-2C5DECDB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4766-BF6B-4D79-B4AE-C59140FB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64B1-E1BE-4731-A006-513E8807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08F3-276C-421B-8D40-A6B32F75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0575-8333-4C14-A357-DB7A5286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2638-C994-4672-A11A-2C87A4C2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867D-307F-4FE1-BA0C-1BF73508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6476-6C2F-489B-A4A1-963EAA67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ADD8-6BA2-40C6-B905-9F9589FF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B141-DA5E-4FE9-8788-0CF0B5F1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F951-3D28-4513-AFC2-D76E007E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9E47-DFD3-46B5-8D76-9885C41B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CF7E-B1FB-44F1-B1F1-49083570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988B-59AA-4C72-A9E8-B683831E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23BF-CC59-4CC2-AC5C-D73AD8E3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D5B-8E32-43C9-9565-8C2EF574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A5D-2A42-476E-BE0F-088E0297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1ACF-8BC0-485C-B75C-F9A0A735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08D-F169-4A93-AA85-93F12A78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97A-B101-4F80-BFF4-ADDF5104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10D2-0BAA-47FD-8A30-0E29C2E8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EE3-1FA1-4FFC-AFAA-E3AE75ED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33DC-27A2-4624-BB76-223028B672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Blue Highway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lue Highway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  <a:p>
            <a:pPr lvl="1" marL="668520" indent="-2570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lue Highway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  <a:p>
            <a:pPr lvl="2" marL="1028520" indent="-20556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lue Highway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  <a:p>
            <a:pPr lvl="3" marL="1440000" indent="-20556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lue Highway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  <a:p>
            <a:pPr lvl="4" marL="1851480" indent="-20556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lue Highway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  <a:p>
            <a:pPr lvl="5" marL="1851480" indent="-20556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lue Highway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  <a:p>
            <a:pPr lvl="6" marL="1851480" indent="-20556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lue Highway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lue Highway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FE0E-667C-4F8B-9E3B-3A330067F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lue Highway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ue Highway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lue Highway"/>
            </a:endParaRPr>
          </a:p>
          <a:p>
            <a:pPr lvl="2" marL="914400" algn="ctr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ue Highway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lue Highway"/>
            </a:endParaRPr>
          </a:p>
          <a:p>
            <a:pPr lvl="3" marL="1371600" algn="ctr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lvl="4" marL="18288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ansomeverglades.rubiconatlas.org/" TargetMode="External"/><Relationship Id="rId2" Type="http://schemas.openxmlformats.org/officeDocument/2006/relationships/hyperlink" Target="http://fl.rubiconatlas.net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520" y="1905120"/>
            <a:ext cx="7239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lue Highway"/>
              </a:rPr>
              <a:t>Curriculum Mapping Overview</a:t>
            </a:r>
            <a:endParaRPr b="1" lang="en-US" sz="5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6000" y="40381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ue Highway"/>
              </a:rPr>
              <a:t>Ransom Everglades School</a:t>
            </a:r>
            <a:endParaRPr b="0" lang="en-US" sz="3200" spc="-1" strike="noStrike">
              <a:solidFill>
                <a:srgbClr val="ffffff"/>
              </a:solidFill>
              <a:latin typeface="Blue Highway"/>
            </a:endParaRPr>
          </a:p>
          <a:p>
            <a:pPr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ue Highway"/>
              </a:rPr>
              <a:t>Faculty Rollout</a:t>
            </a:r>
            <a:endParaRPr b="0" lang="en-US" sz="3200" spc="-1" strike="noStrike">
              <a:solidFill>
                <a:srgbClr val="ffffff"/>
              </a:solidFill>
              <a:latin typeface="Blue Highway"/>
            </a:endParaRPr>
          </a:p>
          <a:p>
            <a:pPr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ue Highway"/>
              </a:rPr>
              <a:t>February 18, 2009</a:t>
            </a:r>
            <a:endParaRPr b="0" lang="en-US" sz="32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30240"/>
            <a:ext cx="86868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693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Blue Highway"/>
              </a:rPr>
              <a:t>What is a Curriculum Map?</a:t>
            </a: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6940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ue Highway"/>
              </a:rPr>
              <a:t>A fluid, organic document</a:t>
            </a:r>
            <a:endParaRPr b="0" lang="en-US" sz="2800" spc="-1" strike="noStrike">
              <a:solidFill>
                <a:srgbClr val="ffffff"/>
              </a:solidFill>
              <a:latin typeface="Blue Highway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DONE” is a four letter word in ATLAS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ue Highway"/>
              </a:rPr>
              <a:t>A venue to </a:t>
            </a:r>
            <a:r>
              <a:rPr b="0" lang="en-US" sz="2800" spc="-1" strike="noStrike">
                <a:solidFill>
                  <a:srgbClr val="ffffb7"/>
                </a:solidFill>
                <a:latin typeface="Blue Highway"/>
              </a:rPr>
              <a:t>report</a:t>
            </a:r>
            <a:r>
              <a:rPr b="0" lang="en-US" sz="2800" spc="-1" strike="noStrike">
                <a:solidFill>
                  <a:srgbClr val="ffffff"/>
                </a:solidFill>
                <a:latin typeface="Blue Highway"/>
              </a:rPr>
              <a:t> and </a:t>
            </a:r>
            <a:r>
              <a:rPr b="0" lang="en-US" sz="2800" spc="-1" strike="noStrike">
                <a:solidFill>
                  <a:srgbClr val="ffffb7"/>
                </a:solidFill>
                <a:latin typeface="Blue Highway"/>
              </a:rPr>
              <a:t>communicate</a:t>
            </a:r>
            <a:r>
              <a:rPr b="0" lang="en-US" sz="2800" spc="-1" strike="noStrike">
                <a:solidFill>
                  <a:srgbClr val="ffffff"/>
                </a:solidFill>
                <a:latin typeface="Blue Highway"/>
              </a:rPr>
              <a:t> what we teach</a:t>
            </a:r>
            <a:endParaRPr b="0" lang="en-US" sz="2800" spc="-1" strike="noStrike">
              <a:solidFill>
                <a:srgbClr val="ffffff"/>
              </a:solidFill>
              <a:latin typeface="Blue Highway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ue Highway"/>
              </a:rPr>
              <a:t>A </a:t>
            </a:r>
            <a:r>
              <a:rPr b="0" lang="en-US" sz="2800" spc="-1" strike="noStrike">
                <a:solidFill>
                  <a:srgbClr val="ffffb7"/>
                </a:solidFill>
                <a:latin typeface="Blue Highway"/>
              </a:rPr>
              <a:t>conversation piece</a:t>
            </a:r>
            <a:r>
              <a:rPr b="0" lang="en-US" sz="2800" spc="-1" strike="noStrike">
                <a:solidFill>
                  <a:srgbClr val="ffffff"/>
                </a:solidFill>
                <a:latin typeface="Blue Highway"/>
              </a:rPr>
              <a:t> to promote discussion of what we teach</a:t>
            </a:r>
            <a:endParaRPr b="0" lang="en-US" sz="2800" spc="-1" strike="noStrike">
              <a:solidFill>
                <a:srgbClr val="ffffff"/>
              </a:solidFill>
              <a:latin typeface="Blue Highway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ue Highway"/>
              </a:rPr>
              <a:t>A tool to facilitate</a:t>
            </a:r>
            <a:endParaRPr b="0" lang="en-US" sz="2800" spc="-1" strike="noStrike">
              <a:solidFill>
                <a:srgbClr val="ffffff"/>
              </a:solidFill>
              <a:latin typeface="Blue Highway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the study of our curriculum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implementation of curricular initiatives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interdisciplinary learning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transitions in teaching assignments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conversations between groups of teachers, departments, grade levels, full faculty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Blue Highway"/>
              </a:rPr>
              <a:t>ATLAS Curriculum Maps</a:t>
            </a: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066680"/>
            <a:ext cx="7315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ATLAS is web based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marL="339480" indent="-3394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ATLAS is customized to needs and preferences of Ransom Everglades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lue Highway"/>
              </a:rPr>
              <a:t>Elements of the Map: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lvl="1" marL="735480" indent="-28296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lue Highway"/>
              </a:rPr>
              <a:t>Essential Themes and Objectives</a:t>
            </a:r>
            <a:endParaRPr b="0" lang="en-US" sz="2000" spc="-1" strike="noStrike">
              <a:solidFill>
                <a:srgbClr val="ffffff"/>
              </a:solidFill>
              <a:latin typeface="Blue Highway"/>
            </a:endParaRPr>
          </a:p>
          <a:p>
            <a:pPr lvl="1" marL="735480" indent="-28296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lue Highway"/>
              </a:rPr>
              <a:t>Content</a:t>
            </a:r>
            <a:endParaRPr b="0" lang="en-US" sz="2000" spc="-1" strike="noStrike">
              <a:solidFill>
                <a:srgbClr val="ffffff"/>
              </a:solidFill>
              <a:latin typeface="Blue Highway"/>
            </a:endParaRPr>
          </a:p>
          <a:p>
            <a:pPr lvl="1" marL="735480" indent="-28296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lue Highway"/>
              </a:rPr>
              <a:t>Essential Skills</a:t>
            </a:r>
            <a:endParaRPr b="0" lang="en-US" sz="2000" spc="-1" strike="noStrike">
              <a:solidFill>
                <a:srgbClr val="ffffff"/>
              </a:solidFill>
              <a:latin typeface="Blue Highway"/>
            </a:endParaRPr>
          </a:p>
          <a:p>
            <a:pPr lvl="1" marL="735480" indent="-28296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lue Highway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Blue Highway"/>
            </a:endParaRPr>
          </a:p>
          <a:p>
            <a:pPr lvl="1" marL="735480" indent="-28296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lue Highway"/>
              </a:rPr>
              <a:t>Assessment</a:t>
            </a:r>
            <a:endParaRPr b="0" lang="en-US" sz="2000" spc="-1" strike="noStrike">
              <a:solidFill>
                <a:srgbClr val="ffffff"/>
              </a:solidFill>
              <a:latin typeface="Blue Highway"/>
            </a:endParaRPr>
          </a:p>
          <a:p>
            <a:pPr lvl="1" marL="735480" indent="-28296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lue Highway"/>
              </a:rPr>
              <a:t>School Improvement Plan (SIP)</a:t>
            </a:r>
            <a:endParaRPr b="0" lang="en-US" sz="2000" spc="-1" strike="noStrike">
              <a:solidFill>
                <a:srgbClr val="ffffff"/>
              </a:solidFill>
              <a:latin typeface="Blue Highway"/>
            </a:endParaRPr>
          </a:p>
          <a:p>
            <a:pPr lvl="1" marL="735480" indent="-28296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lue Highway"/>
              </a:rPr>
              <a:t>Resources and Materials</a:t>
            </a:r>
            <a:endParaRPr b="0" lang="en-US" sz="2000" spc="-1" strike="noStrike">
              <a:solidFill>
                <a:srgbClr val="ffffff"/>
              </a:solidFill>
              <a:latin typeface="Blue Highway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lue Highway"/>
            </a:endParaRPr>
          </a:p>
          <a:p>
            <a:pPr marL="339480" indent="-3394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Blue Highway"/>
                <a:hlinkClick r:id="rId1"/>
              </a:rPr>
              <a:t>Ransom Everglades Map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marL="339480" indent="-33948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Blue Highway"/>
                <a:hlinkClick r:id="rId2"/>
              </a:rPr>
              <a:t>ATLAS Test Drive</a:t>
            </a: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6868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-31680"/>
            <a:ext cx="86104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6868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53452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Blue Highway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lue Highwa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53452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03:35:24Z</dcterms:created>
  <dc:creator>Ransom</dc:creator>
  <dc:description/>
  <dc:language>en-US</dc:language>
  <cp:lastModifiedBy>Ransom</cp:lastModifiedBy>
  <dcterms:modified xsi:type="dcterms:W3CDTF">2009-02-18T19:22:20Z</dcterms:modified>
  <cp:revision>14</cp:revision>
  <dc:subject/>
  <dc:title>Curriculum Mapping Overview</dc:title>
</cp:coreProperties>
</file>